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14E-14F4-4EA7-AE91-0C4D1583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C01D-7A28-4E06-9762-9624CBE7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854-2376-4949-820C-0293CE30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9C9-D674-43C6-87D8-EA424109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A79-6896-4F54-A94A-CA7B8F65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526-3CC7-48A3-9F98-024811E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09F-6F9E-4B44-9221-1E9F3E13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8F6-4CC9-4119-8D94-5ADC8D17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E9BC-2668-402A-95AA-3F9D0AC0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895-378B-4697-83C8-418629A5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625-C2F7-4C4F-B9EE-60347B0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BC6-5404-4D11-B0E1-347B0BE2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E356-8AFD-4654-9F26-717D0206E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ydr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 of the earth’s surface is covered with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s:  97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:  2.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 &lt; .00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Evap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changes from liquid to gas (vap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% of evaporation comes from the _________, the rest from ___________ and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__ transport evaporated water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67200" y="160020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Cond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changes from gas to ____________ as they rise in the atmosphere (gets col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droplets adhere to particles in the atmosphere and form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67200" y="160020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Tran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evaporates from the ________ and ________ of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 of evaporated water comes from 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047760" cy="210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2381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Precip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transfers from the atmosphere to the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3962520"/>
            <a:ext cx="4114800" cy="26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ycle:  Run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off transfers water from _______, rivers and ________ to the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off also occurs when the ground cannot ________ any more water and it flows on the ________ into bodies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272412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ater, water everywhere…but not a drop to dr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lmost all of the earth’s water in the oceans, less than _____ is available for hum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water is not equal, due to ________ and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3581280" cy="237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0" y="3913200"/>
            <a:ext cx="396252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880" y="40381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pollution is a major problem around the world, including here in Minnes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lf of the world’s population…3 billion people!...don’t have access to clea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2857320" cy="171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3640" y="646200"/>
            <a:ext cx="36734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The equivalent of 12 jumbo jets of children die everyday from sanitation-related diseas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-UN Water 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28573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TER FA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ay more than 1 billion people make a 3-hour journey ON FOOT just to collect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,000 people die every day from water-related illnesses.  This includes diseases transmitted via water, from lack of water, and from parasites that breed in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0:26:07Z</dcterms:created>
  <dc:creator>sforsland</dc:creator>
  <dc:description/>
  <dc:language>en-US</dc:language>
  <cp:lastModifiedBy>hberndt</cp:lastModifiedBy>
  <dcterms:modified xsi:type="dcterms:W3CDTF">2007-10-04T13:44:39Z</dcterms:modified>
  <cp:revision>6</cp:revision>
  <dc:subject/>
  <dc:title>Hydrosphere</dc:title>
</cp:coreProperties>
</file>